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177B1C-CBB9-4F1C-9F9E-9B8CAE66694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F659536-1679-42D9-86D1-5683386A5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1C2D09F-48DD-4B0F-9BA4-8CA87C7BD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762442F-59D9-4AF0-8871-CF2BF1A2E2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06DAEB-B601-4AA9-919D-ED4D7A64C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CE33D2-AFD3-451E-8698-CC33050A4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3B8B5C1-C54A-4E6A-8E9C-24A5ADD0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E5147AE-347B-4A69-A3C0-26E967899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E65417C-43D9-471E-9104-5EB6F8082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AFA095D-A473-4C45-A898-0623D266D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F0575C-D81A-4F74-8C71-3038201AC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CB7DE21-6235-4FD3-AAB8-F7542D2FABB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157E-6AB7-40B8-9F61-63BB398760E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Natural Resources</a:t>
            </a:r>
            <a:br>
              <a:rPr sz="5400"/>
            </a:br>
            <a:r>
              <a:rPr b="1" lang="en-GB" sz="5400" spc="-1" strike="noStrike">
                <a:solidFill>
                  <a:srgbClr val="000000"/>
                </a:solidFill>
                <a:latin typeface="Arial"/>
              </a:rPr>
              <a:t>(the water cycle)</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water cycle.  In pairs, take turns, one talks the other listens, then swap roles.  In groups, use the template to help you prepare a presentation on the water cyc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4:00Z</dcterms:modified>
  <cp:revision>44</cp:revision>
  <dc:subject/>
  <dc:title>  </dc:title>
</cp:coreProperties>
</file>